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1CE1-69CB-48FF-B948-5912435F3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D2CB-D73B-449F-9FCC-EE91724E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7B2C-0BEF-4C01-846F-54C2C3E6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2952-11DE-4B8E-AB88-2E251AF7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A911-DB46-423D-90F0-CFD75268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CCE6-B403-475C-86A2-D29DFE24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C8D1-5ED5-4E46-9F69-E09EB2C8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52CD-2191-4630-BC42-269A20B6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0477-282B-47E8-B301-6AF44E35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ED97-F04C-455B-8D95-BE2DC9CC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A7D7-785A-4DCA-886F-96B847DF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1D34-7D21-4ABF-9731-4E074961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A54C-6436-4274-B007-16DAD541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643E-0060-432D-9AE2-6CFA6E92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D8E7-78C5-4DB4-8DF0-C76F6F84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A91A-509D-4D65-961B-1A2A78979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3EF3-1FFD-4310-826B-9BEBF527C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B8888-7604-4816-8E6D-64FD060F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26024-8F65-422A-AAE7-11BD4E04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B7E43-B982-498C-881F-3E570E5F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DD6B5-DBA8-43A8-9DE1-816BF28E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1555F-CBA5-42DD-B463-1905D648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46FF-826E-4560-8E76-DF0D210B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F749C-F556-405B-AF26-D6E02447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957C6-4D01-4848-8322-E88E80EF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8AFED-0458-4A54-9EEF-AEEB0FBB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4D69D-9AA6-4B97-875D-67E5A564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40CC6-257E-48B9-87C8-148F5565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807EB-EB8C-4AA6-8ECF-6CA2B3D6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4D9F1-1FEE-4841-AE84-96D443CB7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C3031-578F-4BA5-89DC-C9E6EB070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0F600-C108-4C09-A1B8-52A13C32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79AF7-7C85-4D9B-A52C-180572F2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39E3-AA70-4977-A55C-6544354F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8FA37-5006-4E4F-9FDF-8859B128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3AF91-DE4C-423E-90DB-8036854B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4A246-1E96-4122-AF76-7E0193B0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D8BE0-1FA2-40AD-8FE7-A6830E73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5C3F6-0009-4D61-8640-404175E4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3312F-D2E7-45B0-94A4-AD44A780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9CFAE-591A-4BCB-A4A1-7F217A34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5ED11-779D-4600-907E-49A5D943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5D350-F8C1-4148-8C39-D623A66D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CB141-1135-4F3E-B68F-29C10F121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3820-D604-48E9-9F8C-AB7ECF4C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96A88-9378-461C-8F0C-AC67D8F2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F0569-3EE1-4C90-A67C-8AEADADD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7A386-D531-45BD-8CAB-95FA122C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1488B-B006-4BDF-A4E1-4AF083AE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2F828-79B4-4E2E-935B-943D5681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F06D0-72F6-4777-AFCC-EE6F2806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A5D53-6EBF-47D8-BDF5-BC5FF89F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1CDE9-568E-495F-BBA1-47836F21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D696D-FC6D-44C9-97C4-B356F4D5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C803F-3A70-45EA-8722-8DDC1E4C1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AD68-6134-4D55-A45A-5F1ECCA5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9FE5F-DE54-4DDC-B75D-3159B6F19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3694-E46B-4F47-8FBD-DE3A3593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4905-DF0C-4A74-B622-B48FDE7D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7310-0B8E-432D-8F14-1652ABE8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E857-9C3A-4F4E-BA0A-2995A0F9B03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66CC-EF4A-45FE-9E02-73ABB01C38D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E2E7-C0E3-494B-9468-04361C618A4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A177-D6FC-4411-B46F-8D2CBEEBB71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C89E-7AA5-4C55-ABCB-273F63CF52D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9000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Real Time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04560" y="1295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766f"/>
                </a:solidFill>
                <a:latin typeface="Verdana"/>
              </a:rPr>
              <a:t>Definition: Able to respond to events as they occur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380880" y="1828800"/>
            <a:ext cx="5715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 online chat is considered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al time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, while e-mail, discussion boards and forums are asynchronous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3" name="Group 7"/>
          <p:cNvGrpSpPr/>
          <p:nvPr/>
        </p:nvGrpSpPr>
        <p:grpSpPr>
          <a:xfrm>
            <a:off x="1828800" y="4648320"/>
            <a:ext cx="6888240" cy="1635120"/>
            <a:chOff x="1828800" y="4648320"/>
            <a:chExt cx="6888240" cy="1635120"/>
          </a:xfrm>
        </p:grpSpPr>
        <p:pic>
          <p:nvPicPr>
            <p:cNvPr id="224" name="Picture 2" descr=""/>
            <p:cNvPicPr/>
            <p:nvPr/>
          </p:nvPicPr>
          <p:blipFill>
            <a:blip r:embed="rId1"/>
            <a:stretch/>
          </p:blipFill>
          <p:spPr>
            <a:xfrm>
              <a:off x="1828800" y="4648320"/>
              <a:ext cx="6888240" cy="16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Rectangle 5"/>
            <p:cNvSpPr/>
            <p:nvPr/>
          </p:nvSpPr>
          <p:spPr>
            <a:xfrm>
              <a:off x="6333480" y="4695480"/>
              <a:ext cx="1285920" cy="323640"/>
            </a:xfrm>
            <a:prstGeom prst="rect">
              <a:avLst/>
            </a:prstGeom>
            <a:solidFill>
              <a:srgbClr val="ffffff"/>
            </a:solidFill>
            <a:ln w="42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26" name="Picture 3" descr=""/>
          <p:cNvPicPr/>
          <p:nvPr/>
        </p:nvPicPr>
        <p:blipFill>
          <a:blip r:embed="rId2"/>
          <a:srcRect l="7639" t="5470" r="74308" b="58594"/>
          <a:stretch/>
        </p:blipFill>
        <p:spPr>
          <a:xfrm>
            <a:off x="6019920" y="1773360"/>
            <a:ext cx="2819160" cy="24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20:36:27Z</dcterms:created>
  <dc:creator>RRISD</dc:creator>
  <dc:description/>
  <dc:language>en-US</dc:language>
  <cp:lastModifiedBy>RRISD</cp:lastModifiedBy>
  <dcterms:modified xsi:type="dcterms:W3CDTF">2009-03-13T21:32:18Z</dcterms:modified>
  <cp:revision>3</cp:revision>
  <dc:subject/>
  <dc:title>Real Time</dc:title>
</cp:coreProperties>
</file>